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E21C-07E7-472A-ACB8-12F808B0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D0DA-0639-4E69-87A4-E31F1206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E7A-14CB-4A3F-9783-4C2BDF73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BFD-9F4B-4BE4-8635-24AD219E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63B-0CC7-423D-B17C-FE73F83D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9DE-1CB9-4C2E-B784-F544B480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B5F4-09A2-40BC-AB41-E9FBF405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9461-CC18-4D3C-A544-0EFD8857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720-6D14-4E7B-B3C2-A06B7864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631-2547-4DE6-8682-CBA8FC57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ED5-7691-4800-B166-B2E66513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028-7B4A-413E-B86B-67E7DCF2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2D26-7DCE-4E68-9174-F05C024B8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alibri"/>
              </a:rPr>
              <a:t>Factors that Affect Climat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" y="1247760"/>
            <a:ext cx="7848720" cy="553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7086600" cy="531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n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523880" y="1492200"/>
            <a:ext cx="5867640" cy="4908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701028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7120" y="380880"/>
            <a:ext cx="6093000" cy="6093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7772400" cy="5173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71600" y="5181480"/>
            <a:ext cx="76212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5791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4:41:55Z</dcterms:created>
  <dc:creator>Customer</dc:creator>
  <dc:description/>
  <dc:language>en-US</dc:language>
  <cp:lastModifiedBy>OCDSB User</cp:lastModifiedBy>
  <dcterms:modified xsi:type="dcterms:W3CDTF">2012-04-17T15:32:45Z</dcterms:modified>
  <cp:revision>12</cp:revision>
  <dc:subject/>
  <dc:title>Slide 1</dc:title>
</cp:coreProperties>
</file>